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Earth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S52206.WAV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3"/>
          <p:cNvSpPr/>
          <p:nvPr/>
        </p:nvSpPr>
        <p:spPr>
          <a:xfrm>
            <a:off x="1295280" y="25146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Times New Roman"/>
              </a:rPr>
              <a:t>Chapter 11:  The Earth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Fiel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44400" y="1401840"/>
            <a:ext cx="7661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magnetic field is similar—almost as if Earth contained a giant bar magne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44400" y="255600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magnetic field protects you from harmful solar radiation by trapping many charged particles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44400" y="139716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magnetic axis, the line joining its north and south poles, does not align with its rotational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44400" y="3019320"/>
            <a:ext cx="758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axis is inclined at an angle of 11.5° to the rotational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50880" y="423216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ollowed a compass needle, you would end up at the magnetic north pole rather than the rotational north pol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44400" y="1219320"/>
            <a:ext cx="7432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tion of the magnetic poles has been shown to change slowly over tim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44400" y="2184480"/>
            <a:ext cx="750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poles move around the rotational (geographic) poles in an irregular wa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650880" y="3556080"/>
            <a:ext cx="788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ovement can be significant over decad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44400" y="4540320"/>
            <a:ext cx="788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maps include information about the position of the magnetic north pole at the time the map was mad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93720" y="633240"/>
            <a:ext cx="67881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hat causes changing seasons?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Orbiting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44400" y="173196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arth’s yearly orbit aroun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50880" y="2770200"/>
            <a:ext cx="750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as the Moon is Earth’s satellite, Earth is a satellite of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44400" y="3830760"/>
            <a:ext cx="7737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Earth’s orbit were a circle with the Sun at the center, Earth would maintain a constant distance from the Sun. However, this is not the cas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644400" y="169380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orbit is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ellip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an elongated, closed cur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50880" y="2643120"/>
            <a:ext cx="750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 is not at the center of the ellipse, but is a little toward one en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44400" y="3579840"/>
            <a:ext cx="773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gets closest to the Sun—about 147 km away—around January 3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50880" y="4548240"/>
            <a:ext cx="773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arthest Earth gets away from the Sun is about 152 million km away. This happens around July 4 each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593720" y="633240"/>
            <a:ext cx="67881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hat causes changing seasons?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Orbiting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644400" y="188928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though Earth is closest to the Sun in January, the change in distance is small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50880" y="3067200"/>
            <a:ext cx="803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is exposed to almost the same amount of Sun all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44400" y="4232160"/>
            <a:ext cx="796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the amount of solar energy any one place on Earth receives varies greatly during the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593720" y="633240"/>
            <a:ext cx="67881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hat causes changing seasons?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Orbiting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 Tilted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44400" y="121932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axis is tilted 23.5° from a line drawn perpendicular to the plane of its orbi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50880" y="2178000"/>
            <a:ext cx="8035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his tilt that causes season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44400" y="2666880"/>
            <a:ext cx="35467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daylight hours is greater for the hemisphere, or half of Earth, that is tilted towar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10" descr="im16"/>
          <p:cNvPicPr/>
          <p:nvPr/>
        </p:nvPicPr>
        <p:blipFill>
          <a:blip r:embed="rId1"/>
          <a:stretch/>
        </p:blipFill>
        <p:spPr>
          <a:xfrm>
            <a:off x="4267080" y="2730600"/>
            <a:ext cx="4343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 Tilted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44400" y="1600200"/>
            <a:ext cx="789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misphere that is tilted toward the Sun receives more hours of sunlight each day than the hemisphere that is tilted away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50880" y="3844800"/>
            <a:ext cx="80359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nger period of sunlight is one reason summer is warmer than winter, but it is not the only reaso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 from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4400" y="135252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tilt also causes the Sun’s radiation to strike the hemispheres at different angl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50880" y="2460600"/>
            <a:ext cx="7883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nlight strikes the hemisphere tilted towards the Sun at a higher angle, that is, closer to 90 degrees, than the hemisphere tilted awa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44400" y="4460760"/>
            <a:ext cx="788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receives more total solar energy than the hemisphere tilted away from the Sun, where sunlight strikes at a lower angl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 from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44400" y="1679400"/>
            <a:ext cx="789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 occurs in the hemisphere tilted toward the Sun. when its radiation strikes Earth at a higher angle and for longer periods of tim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44400" y="4060800"/>
            <a:ext cx="788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misphere receiving less radiation experiences wint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685800" y="1752480"/>
            <a:ext cx="728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erical Sha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ound, three-dimensional object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3"/>
          <p:cNvSpPr/>
          <p:nvPr/>
        </p:nvSpPr>
        <p:spPr>
          <a:xfrm>
            <a:off x="685800" y="35053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urface is the same distance from its center at all point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10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stic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44400" y="121932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olst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day when the Sun reaches its greatest distance north or south of the equato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4400" y="2610000"/>
            <a:ext cx="4003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orthern hemisphere, the summer solstice occurs on June 21 or 22, and the winter solstice occurs on December 21 or 22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7" descr="MiddleSchoolAud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8680" y="2224080"/>
            <a:ext cx="393840" cy="368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im20"/>
          <p:cNvPicPr/>
          <p:nvPr/>
        </p:nvPicPr>
        <p:blipFill>
          <a:blip r:embed="rId3"/>
          <a:stretch/>
        </p:blipFill>
        <p:spPr>
          <a:xfrm>
            <a:off x="4572000" y="2362320"/>
            <a:ext cx="4114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"/>
          <p:cNvSpPr/>
          <p:nvPr/>
        </p:nvSpPr>
        <p:spPr>
          <a:xfrm>
            <a:off x="650880" y="5410080"/>
            <a:ext cx="7655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he hours of daylight increase agai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stic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44400" y="120348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outhern hemisphere, the winter solstice is in June, and the summer solstice is in Decemb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44400" y="2593800"/>
            <a:ext cx="788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 solstice is about the longest period of daylight of the yea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50880" y="3565440"/>
            <a:ext cx="7655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is, the number of daylight hours become less and less, until the winter solstice, about the shortest period of daylight of the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50880" y="4952880"/>
            <a:ext cx="765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an equinox the Sun strikes the equator at the highest possible angle, 90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44400" y="120348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equin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when the Sun is directly above Earth’s equato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44400" y="2174760"/>
            <a:ext cx="788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of the tilt of Earth’s axis, the Sun’s position relative to the equator changes constantl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50880" y="356544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imes each year the Sun is directly over the equator, resulting in the spring and fall equinox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4400" y="1671480"/>
            <a:ext cx="796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an equinox, the number of daylight hours and nighttime hours is nearly equal all over the world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50880" y="357516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at this time, neither the northern hemisphere nor the southern hemisphere is tilted towar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44400" y="1636560"/>
            <a:ext cx="781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orthern hemisphere, the Sun reaches the spring equinox on March 20 or 21, and the fall equinox occurs on September 22    or 23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50880" y="392760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outhern hemisphere, the equinoxes are reversed. Spring occurs in September and fall occurs in Marc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arth Data Review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44400" y="1679400"/>
            <a:ext cx="796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is a sphere that rotates on a tilted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50880" y="275112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otation causes day and night. Earth’s tilted axis and its revolution around the Sun cause the season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50880" y="4651200"/>
            <a:ext cx="7655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Earth revolution takes one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erm describes the shape of Earth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09480" y="304812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ax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lip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sphe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wax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93640" y="167652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Earth is a round, three-dimensional object and casts a curved shadow on the Moon during an eclips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93640" y="16765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maginary vertical line around which Earth spins is its __________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329256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ax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lip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ngitu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eridia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93640" y="1523880"/>
            <a:ext cx="268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A. This line cuts directly through the center of Eart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6" descr="im06 earth's axis"/>
          <p:cNvPicPr/>
          <p:nvPr/>
        </p:nvPicPr>
        <p:blipFill>
          <a:blip r:embed="rId1"/>
          <a:stretch/>
        </p:blipFill>
        <p:spPr>
          <a:xfrm>
            <a:off x="3324240" y="1430280"/>
            <a:ext cx="5181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644400" y="21906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totle, a Greek astronomer and philosopher who lived around 350 B.C., suspected that Earth was spherical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644400" y="4137120"/>
            <a:ext cx="758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observed that Earth cast a curved shadow on the Moon during an eclips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593720" y="633240"/>
            <a:ext cx="5112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Spherical Sha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93640" y="16765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inning of Earth on its axis is its __________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09480" y="329256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equino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orb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ev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ro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93640" y="1523880"/>
            <a:ext cx="69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One complete rotation takes 24 hour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644400" y="1676520"/>
            <a:ext cx="7585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sailors, for example, noticed that the tops of approaching ships appeared first on the horizon and the rest appeared gradually, as if they were coming over the crest of a hill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7" descr="im02"/>
          <p:cNvPicPr/>
          <p:nvPr/>
        </p:nvPicPr>
        <p:blipFill>
          <a:blip r:embed="rId1"/>
          <a:stretch/>
        </p:blipFill>
        <p:spPr>
          <a:xfrm>
            <a:off x="3733920" y="3581280"/>
            <a:ext cx="4267080" cy="232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1593720" y="633240"/>
            <a:ext cx="5112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Spherical Sha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dditional Eviden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44400" y="1219320"/>
            <a:ext cx="750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ors also noticed that as they sailed north or south, the North Star moved higher or lower in the sk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44400" y="2625840"/>
            <a:ext cx="4537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st explanation was a spherical Eart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44400" y="3567240"/>
            <a:ext cx="44611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most people know that Earth is spherical and all objects are attracted by gravity to its cent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1" descr="im05 earth"/>
          <p:cNvPicPr/>
          <p:nvPr/>
        </p:nvPicPr>
        <p:blipFill>
          <a:blip r:embed="rId1"/>
          <a:stretch/>
        </p:blipFill>
        <p:spPr>
          <a:xfrm>
            <a:off x="53341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44400" y="1219320"/>
            <a:ext cx="781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imaginary vertical line around which Earth spin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44400" y="2209680"/>
            <a:ext cx="4613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ine cuts directly through the center of Eart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44400" y="3581280"/>
            <a:ext cx="4232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les are located at the north and south ends of Earth’s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33240" y="505152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inning of Earth on its axis, called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o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auses day and night to occu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13" descr="im06"/>
          <p:cNvPicPr/>
          <p:nvPr/>
        </p:nvPicPr>
        <p:blipFill>
          <a:blip r:embed="rId1"/>
          <a:stretch/>
        </p:blipFill>
        <p:spPr>
          <a:xfrm>
            <a:off x="5181480" y="2266920"/>
            <a:ext cx="3124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44400" y="124452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Earth rotates, you can see the Sun come into view at daybreak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44400" y="228924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continues to spin, making it seem as if the Sun moves across the sky until it sets at nigh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4400" y="377820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night, your area of Earth has rotated so that it is facing away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633240" y="482292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of this, the Sun is no longer visible to you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4400" y="1190520"/>
            <a:ext cx="781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continues to rotate steadily, and eventually the Sun comes into view again the next morning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44400" y="2577960"/>
            <a:ext cx="4613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omplete rotation takes about 24 h, or one da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44400" y="3946680"/>
            <a:ext cx="4461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completes about 365 rotations during its one year journey aroun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8" descr="im08"/>
          <p:cNvPicPr/>
          <p:nvPr/>
        </p:nvPicPr>
        <p:blipFill>
          <a:blip r:embed="rId1"/>
          <a:stretch/>
        </p:blipFill>
        <p:spPr>
          <a:xfrm>
            <a:off x="5334120" y="2209680"/>
            <a:ext cx="311292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Fiel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44400" y="128412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hypothesize that the movement of material inside Earth’s core, along with Earth’s rotation generates a magnetic fiel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44400" y="2782800"/>
            <a:ext cx="758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gnetic field is much like that of a bar magnet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44400" y="3843360"/>
            <a:ext cx="796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has a north and south magnetic pol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50880" y="4465800"/>
            <a:ext cx="796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 sprinkle iron shavings over a bar magnet, the shavings align with the magnetic field of the magne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9:51:36Z</dcterms:created>
  <dc:creator>Cherie Hatton</dc:creator>
  <dc:description/>
  <dc:language>en-US</dc:language>
  <cp:lastModifiedBy>St. Aloysius</cp:lastModifiedBy>
  <dcterms:modified xsi:type="dcterms:W3CDTF">2012-04-11T16:03:37Z</dcterms:modified>
  <cp:revision>477</cp:revision>
  <dc:subject/>
  <dc:title>Slide 1</dc:title>
</cp:coreProperties>
</file>